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4D86-337D-423F-9C98-F44FB07A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B30A-C930-4877-9BE1-2C4CD9C7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777B-E86B-4DD3-8D9B-D7C453828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2A70-4D54-481D-B647-DB2F70774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34CB-A476-47E9-AC44-CA18115E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7BE3-15E7-4CC7-B2A3-AE92A3F5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89F1-DE44-4325-A3DF-10F595FD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114A-41F9-4322-8E2A-39BE8910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52E1-281C-4CB5-BE55-75A3F0E5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5E8C-AE87-4840-896B-01418920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FACE-F1D6-4BC3-B27E-E3BC6CBF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F2BD-5AFE-4001-94B1-EC030761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1C0E-C093-4F72-A498-D0FCD49F5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7294" r="42023" b="3125"/>
          <a:stretch/>
        </p:blipFill>
        <p:spPr>
          <a:xfrm>
            <a:off x="380880" y="152280"/>
            <a:ext cx="75438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7T02:48:30Z</dcterms:created>
  <dc:creator>rkruz</dc:creator>
  <dc:description/>
  <dc:language>en-US</dc:language>
  <cp:lastModifiedBy>rkruz</cp:lastModifiedBy>
  <dcterms:modified xsi:type="dcterms:W3CDTF">2017-12-07T02:49:19Z</dcterms:modified>
  <cp:revision>1</cp:revision>
  <dc:subject/>
  <dc:title>Slide 1</dc:title>
</cp:coreProperties>
</file>